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C1D1-3304-4945-BC0A-B94FF0B4E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98640" y="539640"/>
            <a:ext cx="4860720" cy="3645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RPOSE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how the different emphases of the Content Standards across the gr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EA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igure shows the different emphases of the Content Standards across the grade-bands.  For example, at the Pre-K-2 level, Number and Operations receives much more emphasis than Algebra but Algebra receives more attention in 9-12 than Number and Oper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meant only to be suggestive;  much of an instructional program may integrate the various Standards.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RMATION POINTS FOR SPEA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e Mathematics is integrated through the Standards (se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nciples and Standar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. 31 for discussion.)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nciples and Standar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.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D2D-FFE5-43B0-9808-AC5B40D6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31C-1C87-498A-8C6A-D6D66350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8BA-06E6-4C3A-BC7B-97AEF1A3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0690-2430-4AEE-A3DE-9D478A3E9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8128-1B42-4DD5-8559-55B02AB1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0DE-DE2F-498C-AD68-55E46D3D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FFCE-03CF-4AEE-8B2F-8E6C2866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795-DA65-4EAE-860F-CEBE8461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B136-16CB-445F-8A78-0C5F18B6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EF9C-67DC-4991-8BD6-EBD30A41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FC93-B6DB-452F-97FE-F51F0ECA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9426-A060-45D8-A880-11EEA39A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0277-C2BE-491F-B004-E0F79875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mphasis Across the Gr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2514600"/>
            <a:ext cx="163512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3429000"/>
            <a:ext cx="1193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42670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5029200"/>
            <a:ext cx="184140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5715000"/>
            <a:ext cx="201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Analysis and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2133720"/>
            <a:ext cx="129528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K–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2133720"/>
            <a:ext cx="90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–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133720"/>
            <a:ext cx="9018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–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791320" y="2133720"/>
            <a:ext cx="901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–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895480" y="2514600"/>
            <a:ext cx="38242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al- Model-Symbol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666880" y="2286000"/>
          <a:ext cx="449604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86000"/>
                    <a:ext cx="449604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886200" y="19810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1828800"/>
            <a:ext cx="152388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952880"/>
            <a:ext cx="2286000" cy="45972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876920"/>
            <a:ext cx="1981080" cy="8254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and Or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352680" y="2743200"/>
            <a:ext cx="762120" cy="1295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87440" y="5180760"/>
            <a:ext cx="1503000" cy="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852160" y="2768400"/>
            <a:ext cx="716400" cy="1321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171756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17:43:10Z</dcterms:created>
  <dc:creator>Bonnie Gabriel</dc:creator>
  <dc:description/>
  <dc:language>en-US</dc:language>
  <cp:lastModifiedBy>Bonnie Gabriel</cp:lastModifiedBy>
  <dcterms:modified xsi:type="dcterms:W3CDTF">2005-03-02T17:47:08Z</dcterms:modified>
  <cp:revision>1</cp:revision>
  <dc:subject/>
  <dc:title>Emphasis Across the Grades</dc:title>
</cp:coreProperties>
</file>